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640-9E22-4899-A960-3AA86DCB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B81-559F-4871-B186-25EAB80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FBA-2DE3-4AFE-BB38-5A456F2D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5C6-2B95-440D-86A2-1DB93539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C71-A111-4F6F-A69A-DC0E235A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2A0-6762-45C4-84B2-72D4695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323-A8D0-4CD0-9409-6F3644BC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DF7-3212-40D6-8EFE-44AA0CCE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B35-4D3D-4544-A34A-70F3656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F20-9F2B-4D45-BE6E-BB6F86E9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533-DA84-4F63-88FC-51095C0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93F-CB5D-4CF5-AED7-9EA924B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9622-3E14-4C44-9E17-38CEE5F7B4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AA3-B00B-4FED-AA27-21A4AA7B7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11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1700280"/>
            <a:ext cx="81374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UNIT SIX WHICH SEASON DO YOU LIKE Lesson 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课件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8000" y="5851440"/>
            <a:ext cx="53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79640" y="5661000"/>
            <a:ext cx="46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22400" y="1820880"/>
            <a:ext cx="263376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869000"/>
            <a:ext cx="9144000" cy="2166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omic Sans MS"/>
              </a:rPr>
              <a:t>The grape</a:t>
            </a:r>
            <a:r>
              <a:rPr b="0" lang="en-US" sz="6800" spc="-1" strike="noStrike">
                <a:solidFill>
                  <a:srgbClr val="ff3300"/>
                </a:solidFill>
                <a:latin typeface="Comic Sans MS"/>
              </a:rPr>
              <a:t>s </a:t>
            </a:r>
            <a:r>
              <a:rPr b="0" lang="en-US" sz="68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6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800" spc="-1" strike="noStrike">
                <a:solidFill>
                  <a:srgbClr val="9900ff"/>
                </a:solidFill>
                <a:latin typeface="Comic Sans MS"/>
              </a:rPr>
              <a:t>purple</a:t>
            </a:r>
            <a:r>
              <a:rPr b="0" lang="en-US" sz="6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5616720" cy="403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941720"/>
            <a:ext cx="9144000" cy="1084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The tree</a:t>
            </a:r>
            <a:r>
              <a:rPr b="0" lang="en-US" sz="6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65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65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5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65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6500" spc="-1" strike="noStrike">
                <a:solidFill>
                  <a:srgbClr val="9900ff"/>
                </a:solidFill>
                <a:latin typeface="Comic Sans MS"/>
              </a:rPr>
              <a:t>l</a:t>
            </a:r>
            <a:r>
              <a:rPr b="0" lang="en-US" sz="65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6500" spc="-1" strike="noStrike">
                <a:solidFill>
                  <a:srgbClr val="00ff00"/>
                </a:solidFill>
                <a:latin typeface="Comic Sans MS"/>
              </a:rPr>
              <a:t>r</a:t>
            </a:r>
            <a:r>
              <a:rPr b="0" lang="en-US" sz="6500" spc="-1" strike="noStrike">
                <a:solidFill>
                  <a:srgbClr val="d60093"/>
                </a:solidFill>
                <a:latin typeface="Comic Sans MS"/>
              </a:rPr>
              <a:t>f</a:t>
            </a:r>
            <a:r>
              <a:rPr b="0" lang="en-US" sz="6500" spc="-1" strike="noStrike">
                <a:solidFill>
                  <a:srgbClr val="ff6600"/>
                </a:solidFill>
                <a:latin typeface="Comic Sans MS"/>
              </a:rPr>
              <a:t>u</a:t>
            </a:r>
            <a:r>
              <a:rPr b="0" lang="en-US" sz="6500" spc="-1" strike="noStrike">
                <a:solidFill>
                  <a:srgbClr val="6600cc"/>
                </a:solidFill>
                <a:latin typeface="Comic Sans MS"/>
              </a:rPr>
              <a:t>l</a:t>
            </a: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013360"/>
            <a:ext cx="9144000" cy="977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omic Sans MS"/>
              </a:rPr>
              <a:t>The flower</a:t>
            </a:r>
            <a:r>
              <a:rPr b="0" lang="en-US" sz="5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5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58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5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800" spc="-1" strike="noStrike">
                <a:solidFill>
                  <a:srgbClr val="6600cc"/>
                </a:solidFill>
                <a:latin typeface="Comic Sans MS"/>
              </a:rPr>
              <a:t>beautiful</a:t>
            </a:r>
            <a:r>
              <a:rPr b="0" lang="en-US" sz="5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-729" b="8855"/>
          <a:stretch/>
        </p:blipFill>
        <p:spPr>
          <a:xfrm>
            <a:off x="1847880" y="549360"/>
            <a:ext cx="4716360" cy="319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724280"/>
            <a:ext cx="9144000" cy="2074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The banana</a:t>
            </a:r>
            <a:r>
              <a:rPr b="0" lang="en-US" sz="6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65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6500" spc="-1" strike="noStrike">
                <a:solidFill>
                  <a:srgbClr val="6699ff"/>
                </a:solidFill>
                <a:latin typeface="Comic Sans MS"/>
              </a:rPr>
              <a:t>are</a:t>
            </a: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500" spc="-1" strike="noStrike">
                <a:solidFill>
                  <a:srgbClr val="ffff00"/>
                </a:solidFill>
                <a:latin typeface="Comic Sans MS"/>
              </a:rPr>
              <a:t>yellow</a:t>
            </a:r>
            <a:r>
              <a:rPr b="0" lang="en-US" sz="6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weeks are there in a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are 12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days are there in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are seven days in a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8582" t="0" r="11856" b="0"/>
          <a:stretch/>
        </p:blipFill>
        <p:spPr>
          <a:xfrm>
            <a:off x="1258920" y="115920"/>
            <a:ext cx="3024000" cy="264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10648" t="0" r="10648" b="0"/>
          <a:stretch/>
        </p:blipFill>
        <p:spPr>
          <a:xfrm>
            <a:off x="4500720" y="115920"/>
            <a:ext cx="2950920" cy="260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0754" t="0" r="10786" b="0"/>
          <a:stretch/>
        </p:blipFill>
        <p:spPr>
          <a:xfrm>
            <a:off x="1187280" y="2781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10045" t="0" r="11682" b="0"/>
          <a:stretch/>
        </p:blipFill>
        <p:spPr>
          <a:xfrm>
            <a:off x="4500720" y="2781360"/>
            <a:ext cx="287964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01336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ich season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580536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: It’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2972" r="953" b="4190"/>
          <a:stretch/>
        </p:blipFill>
        <p:spPr>
          <a:xfrm>
            <a:off x="828720" y="1230480"/>
            <a:ext cx="6048360" cy="364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42920" y="515772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like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r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844640"/>
            <a:ext cx="2160720" cy="1728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2360" y="4042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: which season do you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87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: I lik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92360" y="4479840"/>
            <a:ext cx="5904000" cy="237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</a:rPr>
              <a:t>a l</a:t>
            </a:r>
            <a:r>
              <a:rPr b="1" lang="en-US" sz="15000" spc="-1" strike="noStrike">
                <a:solidFill>
                  <a:srgbClr val="cc3300"/>
                </a:solidFill>
                <a:latin typeface="Comic Sans MS"/>
              </a:rPr>
              <a:t>ea</a:t>
            </a:r>
            <a:r>
              <a:rPr b="1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854" t="15973" r="58504" b="43695"/>
          <a:stretch/>
        </p:blipFill>
        <p:spPr>
          <a:xfrm>
            <a:off x="250920" y="3213000"/>
            <a:ext cx="1366920" cy="112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Let's ask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A: which season do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24481" t="19752" r="53795" b="51283"/>
          <a:stretch/>
        </p:blipFill>
        <p:spPr>
          <a:xfrm>
            <a:off x="539640" y="191628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64170" t="17249" r="3689" b="41168"/>
          <a:stretch/>
        </p:blipFill>
        <p:spPr>
          <a:xfrm>
            <a:off x="611280" y="4437000"/>
            <a:ext cx="1152360" cy="99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54709" t="42420" r="29229" b="37445"/>
          <a:stretch/>
        </p:blipFill>
        <p:spPr>
          <a:xfrm>
            <a:off x="611280" y="5516640"/>
            <a:ext cx="100944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867280" y="2276640"/>
            <a:ext cx="16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pring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96000" y="3573360"/>
            <a:ext cx="165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utumn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867280" y="4581360"/>
            <a:ext cx="16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inter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-541440" y="1125360"/>
            <a:ext cx="58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: I lik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867280" y="5734080"/>
            <a:ext cx="165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mmer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89000"/>
            <a:ext cx="453708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Bookman Old Style"/>
              </a:rPr>
              <a:t>Homework.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26520" y="2133720"/>
            <a:ext cx="838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.Listen and read the dialog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（听并读本课对话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.Copy the 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（抄写本课单词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1828800"/>
            <a:ext cx="266688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0000" spc="-1" strike="noStrike">
                <a:solidFill>
                  <a:srgbClr val="cc3300"/>
                </a:solidFill>
                <a:latin typeface="Comic Sans MS"/>
              </a:rPr>
              <a:t>ea</a:t>
            </a:r>
            <a:r>
              <a:rPr b="0" lang="en-US" sz="10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1828800"/>
            <a:ext cx="990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9999"/>
                </a:solidFill>
                <a:latin typeface="Comic Sans MS"/>
              </a:rPr>
              <a:t>v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198144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9999"/>
                </a:solidFill>
                <a:latin typeface="Comic Sans MS"/>
              </a:rPr>
              <a:t>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3581280"/>
            <a:ext cx="6116040" cy="2797200"/>
            <a:chOff x="1447920" y="3581280"/>
            <a:chExt cx="6116040" cy="279720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1447920" y="3809880"/>
              <a:ext cx="261108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3276360" y="4419360"/>
              <a:ext cx="2611080" cy="195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4952880" y="3581280"/>
              <a:ext cx="2611080" cy="195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221000"/>
            <a:ext cx="9074160" cy="375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ff00"/>
                </a:solidFill>
                <a:latin typeface="Comic Sans MS"/>
              </a:rPr>
              <a:t>green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 gr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s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3049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617" t="0" r="0" b="15568"/>
          <a:stretch/>
        </p:blipFill>
        <p:spPr>
          <a:xfrm>
            <a:off x="3916440" y="380880"/>
            <a:ext cx="4922640" cy="16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2960" y="2421000"/>
            <a:ext cx="290376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ree</a:t>
            </a:r>
            <a:r>
              <a:rPr b="1" lang="en-US" sz="8000" spc="-1" strike="noStrike">
                <a:solidFill>
                  <a:srgbClr val="cc3300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333520"/>
            <a:ext cx="288144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360" y="5573880"/>
            <a:ext cx="385128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flower</a:t>
            </a:r>
            <a:r>
              <a:rPr b="1" lang="en-US" sz="8000" spc="-1" strike="noStrike">
                <a:solidFill>
                  <a:srgbClr val="cc3300"/>
                </a:solidFill>
                <a:latin typeface="Comic Sans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73880"/>
            <a:ext cx="3214800" cy="25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eav</a:t>
            </a:r>
            <a:r>
              <a:rPr b="1" lang="en-US" sz="8000" spc="-1" strike="noStrike">
                <a:solidFill>
                  <a:srgbClr val="cc3300"/>
                </a:solidFill>
                <a:latin typeface="Comic Sans MS"/>
              </a:rPr>
              <a:t>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0"/>
            <a:ext cx="7812000" cy="314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100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 sk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2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ow many seasons are there in a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are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4160" cy="572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573408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03280" y="566100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/>
  <dcterms:modified xsi:type="dcterms:W3CDTF">2015-06-27T10:53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